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F559-0581-4ED6-B1F4-3EDB40DC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AF2C-6177-4888-B310-56F4CBCC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209-DD98-414E-A366-4A8450BB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6CC-3A59-4E11-B843-59626CFA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743F-C071-4639-B034-19622EDF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8E3D-4BA9-4828-B527-6575EC13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6F83-21C3-4890-8FFF-911BFC98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B909-FAD6-4E7A-A3D3-97548225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3031-B83F-4704-B24E-4DD25B2B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E933-4469-4BB1-ACC4-4F168F3C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DC87-A9BD-4FD5-B0D0-64CAFBAB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F777-34DF-4D61-9781-5F5A8B8E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D52D-DF50-421E-8D1D-B627A799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1DC5-F06F-4CAC-910E-18B8C98C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7CFB-818C-4807-B356-F47F5ABE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D9B7-C3D3-4843-B831-CE337248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4889-7CF7-447E-8FEC-61BF0638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FC01-19DA-4255-9A67-4B2C45A5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53D8-9377-47A2-AFE1-A000A45E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EC27-6640-47CE-8D9F-FE04CED3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C1FA-F77F-473F-95EA-D435F638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6893-0C0E-4BC1-9DDC-38620D78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6258-1910-4DCA-8A70-BCA6A842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4DA-0950-49A8-B995-EDCB0A7B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66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5B9C-91DB-4783-86DB-AFFEB07FC0A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0066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ACAE-2EC9-4C33-9438-6E805CD7642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66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660066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27008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Garamond"/>
              </a:rPr>
              <a:t>Сравнение объектов по пространственным признакам</a:t>
            </a:r>
            <a:endParaRPr b="0" lang="en-US" sz="48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3284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форма, величина, расположени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19640" y="46530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ыполнил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арманова Евгения, студентка 646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6021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ыктывкар, 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3984480"/>
            <a:ext cx="23032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260280"/>
            <a:ext cx="8424720" cy="24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 по формированию элементарных математических представ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«Программа воспитания и обучения в детском саду» под ред. М.А.Васильевой – 200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213000"/>
            <a:ext cx="8209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ладшая группа (2-3 года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</a:rPr>
              <a:t>Величина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влекать внимание детей к предметам контрастных размеров и их обозначению в речи (большой дом-маленький дом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</a:rPr>
              <a:t>Форм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ить различать предметы по форме и называть их (кубик, кирпичик, ша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5280" y="333360"/>
            <a:ext cx="8424720" cy="69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I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ладша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</a:rPr>
              <a:t>Величина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- сравнивать предметы контрастных и одинаковых разме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- при сравнении предметов соизмерять один предмет с другим по заданному признаку величины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ине, ширине, высоте, величине в цел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пользуясь приемами наложения и прило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- обозначать результат сравнения словами: длинный- короткий, широкий- узкий, высокий- низкий, большой- малень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</a:rPr>
              <a:t>Фор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ознакомить детей с геометрическими фигурами – кругом, квадратом, треугольником; учить обследовать форму этих фигур, используя зрение и осяз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9640" y="476280"/>
            <a:ext cx="8136000" cy="60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редня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</a:rPr>
              <a:t>Велич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- учить сравнивать 2 предмета по толщине путем непосредственного наложения и приложения их друг к друг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- отражать результаты сравнения в речи, используя прилагательные: длинее- короче, шире- уже, выше- ниже, толще- тоньш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- учить сравнивать предметы по 2 признакам величины (жёлтый шарф короче и уже синег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- устанавливать размерные отношения между 3-5 предметами разной длины (ширины, высоты), толщины, располагать их в определенной последовательности – в порядке убывания или нарастания величи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- вводить в активную речь детей понятия, обозначающие размерные отношения предметов (самая высокая- пониже- еще ниже- самая низка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836640"/>
            <a:ext cx="8280360" cy="26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Форм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познакомить детей с прямоугольником, сравнивая его с кругом, квадратом, треугольни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учить соотносить форму предметов с известными геометрическими фигурами: тарелка - круг, мяч - шар, дверь - прямоугольник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4076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308720" y="3933720"/>
            <a:ext cx="2051280" cy="2051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219640" y="4149720"/>
            <a:ext cx="1081080" cy="16556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16720" y="4653000"/>
            <a:ext cx="936720" cy="720720"/>
          </a:xfrm>
          <a:prstGeom prst="rightArrow">
            <a:avLst>
              <a:gd name="adj1" fmla="val 50000"/>
              <a:gd name="adj2" fmla="val 324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4292640"/>
            <a:ext cx="1366920" cy="1297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4653000"/>
            <a:ext cx="863640" cy="720720"/>
          </a:xfrm>
          <a:prstGeom prst="leftArrow">
            <a:avLst>
              <a:gd name="adj1" fmla="val 50000"/>
              <a:gd name="adj2" fmla="val 29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333360"/>
            <a:ext cx="8424720" cy="62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тарша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Величин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учить устанавливать размерные отношения между 5-10 предмет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сравнивать 2 предмета по величине (длине, ширине, высоте) опосредованно – с помощью третьего (условной меры), равного одному из сравниваемых предме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развивать глазомер детей, умение находить предметы длиннее (короче), выше (ниже), шире (уже), толще (тоньше) образца и равные 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Фор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познакомить детей с овалом на основе сравнения его с кругом и прямоугольник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развивать геометрическую зоркость: находить в ближайшем окружении предметы одинаковой и разной формы – книги, картина, одеяло (прямоугольны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476280"/>
            <a:ext cx="7848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Ориентировка в пространстве (расположение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совершенствовать умение ориентироваться в окружающем пространст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обозначать в речи взаимное расположение предметов («Справа от куклы сидит заяц, а слева от куклы стоит лошадка, сзади – мишка, а впереди –машин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708360" y="5157720"/>
            <a:ext cx="1873440" cy="1873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64000" y="3357720"/>
            <a:ext cx="2087640" cy="2087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1563840" cy="1563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012000" y="400536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26920" y="476280"/>
            <a:ext cx="626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40464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476280"/>
            <a:ext cx="4968720" cy="58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Verdana"/>
              </a:rPr>
              <a:t>Примерные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1700280"/>
            <a:ext cx="79930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на сравнение объектов по величи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гры со строительным материалом: необходимо выложить длинную и короткую дорожку, построить высокий и низкий домик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ладшая гру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бенку предлагается 2 ёлочки разной высоты – под высокой ёлочкой зарыт клад. Необходимо определить какая из ёлочек выше с помощью полоски бумаги. Ребенок должен приложить полоску к одной из ёлочек, отметить её высоту, сделать сгиб на полоске, лишнее отрезать – прикладывает полоску к другой ёлочке. (старшая гру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164360" y="260280"/>
            <a:ext cx="1800360" cy="18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55640" y="1700280"/>
            <a:ext cx="7993080" cy="46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на сравнение объектов по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ебенку предлагается найти в группе предметы одинаковой и разной формы (Например: часы, тарелки – круглые; дверь, окна, книги, альбомный лист – прямоугольные) – старшая груп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на сравнение объектов по располож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ебенку необходимо расположить 3 игрушки так, что бы справа от машинки сидел медведь, слева от машинки лежал мячик, а за машинкой стоял домик. (старшая группа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476280"/>
            <a:ext cx="4968720" cy="58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Verdana"/>
              </a:rPr>
              <a:t>Примерные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5:57:50Z</dcterms:created>
  <dc:creator>1</dc:creator>
  <dc:description/>
  <dc:language>en-US</dc:language>
  <cp:lastModifiedBy>1</cp:lastModifiedBy>
  <dcterms:modified xsi:type="dcterms:W3CDTF">2010-12-26T13:37:50Z</dcterms:modified>
  <cp:revision>36</cp:revision>
  <dc:subject/>
  <dc:title>Сравнение объектов по пространственным признакам</dc:title>
</cp:coreProperties>
</file>